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A51-9E60-4FED-B610-5D8C934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26F-0BC0-4664-816E-5216DCE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63B-4D89-4600-914D-AA262D4A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A50-15C2-4254-B82D-AC42E756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B88-77C0-45F1-AA88-49FD0FF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A33-076D-4B22-B537-66B46E52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2F6-27AA-4F91-BD56-FBE4410E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E6A-802F-41D9-8E6B-38A91356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F56-A08C-4BAC-A38C-5A49F4FB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D53-138F-4B14-9682-4E3C2D2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8A4-45BB-4818-9E4D-FB424E0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85C-AD45-4BE5-A61A-31D7B6FC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878-3F1A-4C6B-B9F7-FD42530C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lazioni sindacal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</a:rPr>
              <a:t>SCOLAST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imes New Roman"/>
              </a:rPr>
              <a:t>OO.SS</a:t>
            </a:r>
            <a:r>
              <a:rPr b="0" lang="it-IT" sz="5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art. 25 del </a:t>
            </a:r>
            <a:r>
              <a:rPr b="0" lang="it-IT" sz="3200" spc="-1" strike="noStrike" u="sng">
                <a:solidFill>
                  <a:srgbClr val="4d4d4d"/>
                </a:solidFill>
                <a:uFillTx/>
                <a:latin typeface="Times New Roman"/>
              </a:rPr>
              <a:t>D.</a:t>
            </a:r>
            <a:r>
              <a:rPr b="0" lang="it-IT" sz="3200" spc="-1" strike="noStrike" u="sng">
                <a:solidFill>
                  <a:srgbClr val="4d4d4d"/>
                </a:solidFill>
                <a:uFillTx/>
                <a:latin typeface="Times New Roman"/>
              </a:rPr>
              <a:t>Lgs</a:t>
            </a:r>
            <a:r>
              <a:rPr b="0" lang="it-IT" sz="3200" spc="-1" strike="noStrike" u="sng">
                <a:solidFill>
                  <a:srgbClr val="4d4d4d"/>
                </a:solidFill>
                <a:uFillTx/>
                <a:latin typeface="Times New Roman"/>
              </a:rPr>
              <a:t>. 30.3.2001 N° 165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abilisce che il D.s., nel rispetto delle competenze degli Organi collegiali, debba assicurare la gestione unitaria dell’istituzione ed abbia inoltre autonomi poteri di direzione, coordinamento e di valorizzazione delle risorse umane, nonché di adozione dei relativi provvedime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BB7-3127-4F70-9EA7-3432AF98C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L’art. 2 comma 2 del </a:t>
            </a:r>
            <a:r>
              <a:rPr b="0" lang="it-IT" sz="3000" spc="-1" strike="noStrike" u="sng">
                <a:solidFill>
                  <a:srgbClr val="4d4d4d"/>
                </a:solidFill>
                <a:uFillTx/>
                <a:latin typeface="Times New Roman"/>
              </a:rPr>
              <a:t>D.</a:t>
            </a:r>
            <a:r>
              <a:rPr b="0" lang="it-IT" sz="3000" spc="-1" strike="noStrike" u="sng">
                <a:solidFill>
                  <a:srgbClr val="4d4d4d"/>
                </a:solidFill>
                <a:uFillTx/>
                <a:latin typeface="Times New Roman"/>
              </a:rPr>
              <a:t>Lgs</a:t>
            </a:r>
            <a:r>
              <a:rPr b="0" lang="it-IT" sz="3000" spc="-1" strike="noStrike" u="sng">
                <a:solidFill>
                  <a:srgbClr val="4d4d4d"/>
                </a:solidFill>
                <a:uFillTx/>
                <a:latin typeface="Times New Roman"/>
              </a:rPr>
              <a:t>. 30.3.2001 N° 165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statuisce che eventuali disposizioni di legge, regolamento o statuto, che introducano discipline dei rapporti di lavoro la cui applicabilità sia limitata ai dipendenti delle  Amministrazioni pubbliche, o a categorie di essi, possono essere derogate da successivi contratti o accordi collettivi e, per la parte derogata non sono ulteriormente applicabili, salvo che la legge disponga espressamente in senso contrari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F8F-31C5-4577-922D-594E0C90F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acoltà gestionale attribuita al D.s. dalla legge non può pertanto essere menomata, ridotta, sminuita, condizionata dalla contrattazio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consegue che sotto il profilo giuridico- amministrativo la contrattazione assume 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o di parere preventivo di natura obbligatoria ma non vincol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eraltro opportuno e prudente che il D.s., anche per i campi di sua esclusiva competenza, consulti i sindacati non per obbligo giuridico, bensì come consigliabile accorgimento manageri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1C9-0A7B-464C-8DE4-FF44A94C1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l ricorso è stato quindi respinto in tutte le sue par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4EC-994E-4232-873D-C6A99FBC6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TUDIO DI CAS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CORSO di due OO.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 art. 28 </a:t>
            </a:r>
            <a:r>
              <a:rPr b="0" lang="en-US" sz="3600" spc="-1" strike="noStrike" u="sng">
                <a:solidFill>
                  <a:srgbClr val="4d4d4d"/>
                </a:solidFill>
                <a:uFillTx/>
                <a:latin typeface="Times New Roman"/>
              </a:rPr>
              <a:t>L. 20.5.1970 N° 3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atuto dei lavorator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comportamenti antisindacal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 dirigente scola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3AD-5931-4FAE-B837-3D639B841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LAMENT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D.s. omette di indire gli incontri con R.S.U. e OO.SS. previsti dalla contrattazione integrativa di istituto sulle seguenti mater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zione delle class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zione degli organici di istitu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alità di impiego di docenti e A.T.A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l Fondo di istitu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urezza nel luogo di lavo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izione dei permessi di aggiorn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i servizi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3E1-D705-4A51-8DA5-71F22F4AAE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DIFESA DEL D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’inizio dell’anno scolastico ho indetto una riunione con R.S.U. e OO.SS. che non ha avuto luogo perché gli stessi hanno declinato l’invito; peraltro alcuni argomenti del ricorso dei sindacati sono di esclusiva competenza del D.s., senza necessità di incontri con R.S.U. e OO.SS.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B39-F843-4CE8-BD70-6789FBF30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FAT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dibattimento emerge che in data 4.10.2003 il D.s. ha inviato a R.S.U. e OO.SS. la seguente convoc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gg.: Contratto integrativo di istituto a.s. 2003/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i sensi delle normative vigenti la R.S.U. di questo istituto è convocata per il 14.10 alle ore 14.30 per l’avvio della contrattazione in oggetto; le Segreterie provinciali, cui la presente è inviata per conoscenza, sono invitate a partecipare alla riuni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che la riunione non ha avuto luogo perché una O.S. aveva un altro impeg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873-04BF-44DB-B26F-96567EC2F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 RAGIONAMENTO DEL GIUD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messo che il D.s. aveva convocato i sindacati per la contrattazione di istituto, che la riunione è saltata non per sua responsabilità e, di conseguenza, viene a mancare il fumus boni iuris, i temi proposti dal ricorso come campo di violazione possono essere raggruppati in tre 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4B2-0361-4151-8D0D-0691157BF8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rattazione collettiva in generale (in particolare l’uso del fondo scolastico)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zione e composizione delle classi, assegnazione dei docenti, orario delle lezioni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stione del personale A.T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058-2077-497E-8657-ED238E84A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304560"/>
            <a:ext cx="655308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DECISION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 GI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981080"/>
            <a:ext cx="716292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er il punto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 D.s. aveva avviato la contrattazione di istituto; è probabile che se i sindacati avessero accolto l’invito, tutti i temi in esame – non solo quello relativo al Fondo di istitu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arebbero stati esaminati congiuntamente; al D.s. nessuna responsabilità può quindi essere addebit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352680"/>
            <a:ext cx="708660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Per il punto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artt. 7 e 10 del </a:t>
            </a:r>
            <a:r>
              <a:rPr b="0" lang="it-IT" sz="1800" spc="-1" strike="noStrike" u="sng">
                <a:solidFill>
                  <a:srgbClr val="4d4d4d"/>
                </a:solidFill>
                <a:uFillTx/>
                <a:latin typeface="Times New Roman"/>
              </a:rPr>
              <a:t>D.</a:t>
            </a:r>
            <a:r>
              <a:rPr b="0" lang="it-IT" sz="1800" spc="-1" strike="noStrike" u="sng">
                <a:solidFill>
                  <a:srgbClr val="4d4d4d"/>
                </a:solidFill>
                <a:uFillTx/>
                <a:latin typeface="Times New Roman"/>
              </a:rPr>
              <a:t>Lgs</a:t>
            </a:r>
            <a:r>
              <a:rPr b="0" lang="it-IT" sz="1800" spc="-1" strike="noStrike" u="sng">
                <a:solidFill>
                  <a:srgbClr val="4d4d4d"/>
                </a:solidFill>
                <a:uFillTx/>
                <a:latin typeface="Times New Roman"/>
              </a:rPr>
              <a:t>. 16.4.1994 N° 297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ttribuiscono le competenze sulla materia al Consiglio di istituto ed al Collegio dei docenti; detti organi non vi hanno rinunziato, né hanno stipulato alcun contratto con le OO.SS.   Di conseguenza le norme contrattuali sull’argomento sono nulle perché contrarie alla leg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5105520"/>
            <a:ext cx="762012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Per il punto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i veda punto precedente ed inoltre l’art. 549 del </a:t>
            </a:r>
            <a:r>
              <a:rPr b="0" lang="it-IT" sz="1600" spc="-1" strike="noStrike" u="sng">
                <a:solidFill>
                  <a:srgbClr val="4d4d4d"/>
                </a:solidFill>
                <a:uFillTx/>
                <a:latin typeface="Times New Roman"/>
              </a:rPr>
              <a:t>D.</a:t>
            </a:r>
            <a:r>
              <a:rPr b="0" lang="it-IT" sz="1600" spc="-1" strike="noStrike" u="sng">
                <a:solidFill>
                  <a:srgbClr val="4d4d4d"/>
                </a:solidFill>
                <a:uFillTx/>
                <a:latin typeface="Times New Roman"/>
              </a:rPr>
              <a:t>Lgs</a:t>
            </a:r>
            <a:r>
              <a:rPr b="0" lang="it-IT" sz="1600" spc="-1" strike="noStrike" u="sng">
                <a:solidFill>
                  <a:srgbClr val="4d4d4d"/>
                </a:solidFill>
                <a:uFillTx/>
                <a:latin typeface="Times New Roman"/>
              </a:rPr>
              <a:t>. 16.4.1994 N° 297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he ha istituito il Consiglio di amministrazione provinciale non è stato aboli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9B9-863E-47B3-9830-D52BE954A4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LTERIORI CONSIDERAZIONI DEL GIU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gerarchia delle fonti giuridiche è immut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Costituzio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Legg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Regolamen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ntratti collettiv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U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AFB-3719-4D6A-B46A-6624F4B50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llo</cp:lastModifiedBy>
  <dcterms:modified xsi:type="dcterms:W3CDTF">2004-05-07T10:00:10Z</dcterms:modified>
  <cp:revision>53</cp:revision>
  <dc:subject/>
  <dc:title>Relazioni sindacali</dc:title>
</cp:coreProperties>
</file>